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28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EDFB-C1B6-4CC4-B60E-B6F8545A9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46D6-F857-442C-9F30-FC0ED5EB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61A5-49D9-42C2-A242-888E0575F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DD4F-ABA3-492D-ACA2-50CC256B4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16AA-E8F8-4108-AECE-0DFE711CC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85B5-E5D7-4E07-B0CE-F340EE2A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92D7-9981-4820-B739-6D6114C8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DF22-DA49-408B-9D22-33930617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2FBE-43CB-4FAE-8DFE-6ECA4E4B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686D-D21F-41B1-B525-0A8032A6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3D17-6134-470D-9AD0-B16E579B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4456-F1A9-41C4-A2A0-5EEADB91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0599-0B03-4966-93EA-376AE6F1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6217-8ABB-4B0F-927E-6026634B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7CAC-DCA9-40D4-972B-450C4DA8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1E49-0B83-4B51-8CF5-FDFF4EA6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7117-C383-433B-B6DD-754CCFDF4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4312-8A47-41AE-BB8A-DAF8536D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C7AE-8AC7-4006-A66F-A54A39F6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94B9-0549-45B7-AE2C-60895E66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3CD0-F875-41D3-B251-76A9A1BF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99D4-75A8-4309-82AE-F30DED5C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CADF-14F3-409A-A4EC-010A86FB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66E3-ABF5-44E9-806E-07890B47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8788-4D83-4C30-8155-8F23A5B1AE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6E41-4EF5-49C7-AFF1-373B005EA7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carbon+dioxide&amp;source=images&amp;cd=&amp;cad=rja&amp;docid=_fAkCVRCz6ZDHM&amp;tbnid=0B8uuCUtWtyAVM:&amp;ved=0CAUQjRw&amp;url=http%3A%2F%2Fwww.telegraph.co.uk%2Fearth%2Fearthnews%2F5257162%2FPower-plants-could-store-carbon-dioxide-under-North-Sea.html&amp;ei=3-VvUef4Aq264AON7IDgAQ&amp;bvm=bv.45368065,d.dmg&amp;psig=AFQjCNHaEdPM51lpr_MX7KCDu793Ut1HMw&amp;ust=1366374233818824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sodium&amp;source=images&amp;cd=&amp;cad=rja&amp;docid=g7x4cZglltb0PM&amp;tbnid=36EA-6_MWrArJM:&amp;ved=0CAUQjRw&amp;url=http%3A%2F%2Fwww.vanderkrogt.net%2Felements%2Felement.php%3Fsym%3DNa&amp;ei=Q-JvUb30NM2g4APN-IGYDQ&amp;bvm=bv.45368065,d.dmg&amp;psig=AFQjCNEku7cwOoMq5J0loNaZQ6cZneRZzA&amp;ust=1366373305288995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google.com/url?sa=i&amp;rct=j&amp;q=carbon+dioxide&amp;source=images&amp;cd=&amp;cad=rja&amp;docid=ZpBUfJUD4z9F0M&amp;tbnid=5k_he8Zyd2S3IM:&amp;ved=0CAUQjRw&amp;url=http%3A%2F%2Fblogs.e-rockford.com%2Fapplesauce%2F2013%2F03%2F06%2Fsharp-increase-in-atmospheric-carbon-dioxide-brings-climate-catastrophe-closer%2F&amp;ei=ceJvUeTPJvLG4AP2xYHIBw&amp;bvm=bv.45368065,d.dmg&amp;psig=AFQjCNGX8PzGixc2iG7QJXyniQuhZaQJKA&amp;ust=1366373352976013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Quant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Volume and the 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32588093"/>
          <p:cNvPicPr/>
          <p:nvPr/>
        </p:nvPicPr>
        <p:blipFill>
          <a:blip r:embed="rId1"/>
          <a:stretch/>
        </p:blipFill>
        <p:spPr>
          <a:xfrm>
            <a:off x="1371600" y="3809880"/>
            <a:ext cx="2630520" cy="28195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533520" y="1523880"/>
            <a:ext cx="678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rding to Avogadro, the mass of one mole of a gas at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lways 22.4L regardless of the gas’ ident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203480" y="3389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90240" y="3200400"/>
            <a:ext cx="696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P = Standard Temperature and Pressure (0</a:t>
            </a:r>
            <a:r>
              <a:rPr b="0" lang="en-US" sz="2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 and 1 at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1" descr="6a00d83453c2c669e20134885f52fb970c-800wi"/>
          <p:cNvPicPr/>
          <p:nvPr/>
        </p:nvPicPr>
        <p:blipFill>
          <a:blip r:embed="rId2"/>
          <a:stretch/>
        </p:blipFill>
        <p:spPr>
          <a:xfrm>
            <a:off x="4800600" y="3962520"/>
            <a:ext cx="25560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ole-Volume Convers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2057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2000"/>
          </a:bodyPr>
          <a:p>
            <a:pPr marL="109440" indent="-109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many moles of CO are contained in 1.8L of CO ga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many Liters of S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represented by 0.5 moles of S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http://i.telegraph.co.uk/multimedia/archive/01395/Carbon-dioxide_1395149c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228600"/>
            <a:ext cx="2678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ulti-Step Convers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http://blogs.reeths-puffer.org/knappk/files/2011/12/MoleRoadMap.png"/>
          <p:cNvPicPr/>
          <p:nvPr/>
        </p:nvPicPr>
        <p:blipFill>
          <a:blip r:embed="rId1"/>
          <a:stretch/>
        </p:blipFill>
        <p:spPr>
          <a:xfrm>
            <a:off x="1096920" y="1832040"/>
            <a:ext cx="3689280" cy="3030480"/>
          </a:xfrm>
          <a:prstGeom prst="rect">
            <a:avLst/>
          </a:prstGeom>
          <a:ln w="0">
            <a:noFill/>
          </a:ln>
        </p:spPr>
      </p:pic>
      <p:sp>
        <p:nvSpPr>
          <p:cNvPr id="150" name="TextBox 10"/>
          <p:cNvSpPr/>
          <p:nvPr/>
        </p:nvSpPr>
        <p:spPr>
          <a:xfrm>
            <a:off x="2842920" y="335268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mole = 6.02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-226800" y="3352680"/>
            <a:ext cx="22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mole = molar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3"/>
          <p:cNvSpPr/>
          <p:nvPr/>
        </p:nvSpPr>
        <p:spPr>
          <a:xfrm>
            <a:off x="1561320" y="144792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mole = 22.4 L at S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571320" y="5105520"/>
            <a:ext cx="70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ass of 1.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oms of Aluminu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arm-up #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733920" y="2133360"/>
            <a:ext cx="487656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ercentage of a tootsie roll pop is made up of carbohydra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2254320" cy="4608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772000" cy="981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3809520" y="3962160"/>
            <a:ext cx="4876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 15/17= 8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etermining the Percent Composition of a Compoun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215120" cy="6717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96560" y="3048120"/>
            <a:ext cx="832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the percent composition of aluminum in aluminum oxide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2"/>
          <a:stretch/>
        </p:blipFill>
        <p:spPr>
          <a:xfrm>
            <a:off x="533520" y="3886200"/>
            <a:ext cx="7737480" cy="6094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3"/>
          <a:stretch/>
        </p:blipFill>
        <p:spPr>
          <a:xfrm>
            <a:off x="2971800" y="4648320"/>
            <a:ext cx="21636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ich of the following contains the greatest percent of lithium by mas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bout the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O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3"/>
          <p:cNvSpPr/>
          <p:nvPr/>
        </p:nvSpPr>
        <p:spPr>
          <a:xfrm>
            <a:off x="304920" y="29718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7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1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"/>
          <p:cNvSpPr/>
          <p:nvPr/>
        </p:nvSpPr>
        <p:spPr>
          <a:xfrm>
            <a:off x="457200" y="5867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29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4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arm-up #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Content Placeholder 2" descr=""/>
          <p:cNvPicPr/>
          <p:nvPr/>
        </p:nvPicPr>
        <p:blipFill>
          <a:blip r:embed="rId1"/>
          <a:stretch/>
        </p:blipFill>
        <p:spPr>
          <a:xfrm>
            <a:off x="171360" y="2938320"/>
            <a:ext cx="8515440" cy="3157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http://www.fsusd.org/cms/lib03/CA01001943/Centricity/Domain/743/math.gif"/>
          <p:cNvPicPr/>
          <p:nvPr/>
        </p:nvPicPr>
        <p:blipFill>
          <a:blip r:embed="rId2"/>
          <a:stretch/>
        </p:blipFill>
        <p:spPr>
          <a:xfrm>
            <a:off x="5334120" y="609480"/>
            <a:ext cx="38098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87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mpirical Formu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6840" y="15998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formula which contains the lowest whole number ratio of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5"/>
          <p:cNvSpPr/>
          <p:nvPr/>
        </p:nvSpPr>
        <p:spPr>
          <a:xfrm>
            <a:off x="885240" y="2743200"/>
            <a:ext cx="80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nic formulas always contain the lowest whole number rat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alent compounds do not always contain the lowest whole number rat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6"/>
          <p:cNvSpPr/>
          <p:nvPr/>
        </p:nvSpPr>
        <p:spPr>
          <a:xfrm>
            <a:off x="990720" y="365760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Empirical Formula of the following compound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1523880" y="441972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3962520" y="44956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5867280" y="441972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etermining Empircal Formul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emical formula of a compound can be found if the percent composition of the compound is 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that percent = 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grams to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lowest whole number ratio of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 the chem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formula for a compound that contains 59% Na and 41% 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6400800" cy="9144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5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"/>
          <p:cNvPicPr/>
          <p:nvPr/>
        </p:nvPicPr>
        <p:blipFill>
          <a:blip r:embed="rId2"/>
          <a:stretch/>
        </p:blipFill>
        <p:spPr>
          <a:xfrm>
            <a:off x="1143000" y="3352680"/>
            <a:ext cx="5867280" cy="9702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8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1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17"/>
          <p:cNvGrpSpPr/>
          <p:nvPr/>
        </p:nvGrpSpPr>
        <p:grpSpPr>
          <a:xfrm>
            <a:off x="1219320" y="4800600"/>
            <a:ext cx="6391080" cy="1838160"/>
            <a:chOff x="1219320" y="4800600"/>
            <a:chExt cx="6391080" cy="1838160"/>
          </a:xfrm>
        </p:grpSpPr>
        <p:sp>
          <p:nvSpPr>
            <p:cNvPr id="194" name="TextBox 14"/>
            <p:cNvSpPr/>
            <p:nvPr/>
          </p:nvSpPr>
          <p:spPr>
            <a:xfrm>
              <a:off x="3276720" y="5410080"/>
              <a:ext cx="2057400" cy="10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n-US" sz="5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12" descr=""/>
            <p:cNvPicPr/>
            <p:nvPr/>
          </p:nvPicPr>
          <p:blipFill>
            <a:blip r:embed="rId3"/>
            <a:stretch/>
          </p:blipFill>
          <p:spPr>
            <a:xfrm>
              <a:off x="1219320" y="4952880"/>
              <a:ext cx="1290960" cy="163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3" descr=""/>
            <p:cNvPicPr/>
            <p:nvPr/>
          </p:nvPicPr>
          <p:blipFill>
            <a:blip r:embed="rId4"/>
            <a:stretch/>
          </p:blipFill>
          <p:spPr>
            <a:xfrm>
              <a:off x="5715000" y="4800600"/>
              <a:ext cx="1895400" cy="1838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all these things have in common with the mo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Donuts"/>
          <p:cNvPicPr/>
          <p:nvPr/>
        </p:nvPicPr>
        <p:blipFill>
          <a:blip r:embed="rId1"/>
          <a:stretch/>
        </p:blipFill>
        <p:spPr>
          <a:xfrm>
            <a:off x="914400" y="3465360"/>
            <a:ext cx="2319480" cy="1760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ANd9GcRQlmY-IEAeUfCcA09UlJJodBB9jxZ6sdjOLeAE5c3R-zJi7FwIlg&amp;t=1"/>
          <p:cNvPicPr/>
          <p:nvPr/>
        </p:nvPicPr>
        <p:blipFill>
          <a:blip r:embed="rId2"/>
          <a:stretch/>
        </p:blipFill>
        <p:spPr>
          <a:xfrm>
            <a:off x="3581280" y="34290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COKE"/>
          <p:cNvPicPr/>
          <p:nvPr/>
        </p:nvPicPr>
        <p:blipFill>
          <a:blip r:embed="rId3"/>
          <a:stretch/>
        </p:blipFill>
        <p:spPr>
          <a:xfrm>
            <a:off x="6248520" y="3429000"/>
            <a:ext cx="2381040" cy="18478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0"/>
          <p:cNvSpPr/>
          <p:nvPr/>
        </p:nvSpPr>
        <p:spPr>
          <a:xfrm>
            <a:off x="1530720" y="54100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do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"/>
          <p:cNvSpPr/>
          <p:nvPr/>
        </p:nvSpPr>
        <p:spPr>
          <a:xfrm>
            <a:off x="4425120" y="54100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2"/>
          <p:cNvSpPr/>
          <p:nvPr/>
        </p:nvSpPr>
        <p:spPr>
          <a:xfrm>
            <a:off x="7018200" y="541008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six 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3"/>
          <p:cNvSpPr/>
          <p:nvPr/>
        </p:nvSpPr>
        <p:spPr>
          <a:xfrm>
            <a:off x="1905120" y="60958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swer: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ll represent qua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4"/>
          <p:cNvSpPr/>
          <p:nvPr/>
        </p:nvSpPr>
        <p:spPr>
          <a:xfrm>
            <a:off x="387000" y="457200"/>
            <a:ext cx="325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asuring Matt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8088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mo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le (mol) is the SI base unit used to measure the amount of a sub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ol = 6.02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ative part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02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alled Avogadro’s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tive particles are the units used in these convers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352680" y="5410080"/>
            <a:ext cx="325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les Na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291240" y="6019920"/>
            <a:ext cx="851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s, formula units (ionic compounds), molecules (covalent compou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http://profitablegrowth.com/wp-content/uploads/2010/01/Mole.jpg"/>
          <p:cNvPicPr/>
          <p:nvPr/>
        </p:nvPicPr>
        <p:blipFill>
          <a:blip r:embed="rId1"/>
          <a:stretch/>
        </p:blipFill>
        <p:spPr>
          <a:xfrm>
            <a:off x="6248520" y="228600"/>
            <a:ext cx="243828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ole to Particle Convers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molecules of water are there in 2.4 moles of wa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moles of copper contain 3.5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pper ato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1922400" y="137160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mole = 6.02 x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3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arm-up #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80880" y="1447920"/>
            <a:ext cx="822960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mass of this bicycle given the mass of it’s individual par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wheel = 0.5 kg, 1frame = 5 kg, 1seat = 0.2 k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et of handlebars = 1k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https://encrypted-tbn1.gstatic.com/images?q=tbn:ANd9GcQGIztAjwxNlDwEOyqzqlI4mnrvcRXlSlRZ_dylHPG2d_ypkjedLg"/>
          <p:cNvPicPr/>
          <p:nvPr/>
        </p:nvPicPr>
        <p:blipFill>
          <a:blip r:embed="rId1"/>
          <a:stretch/>
        </p:blipFill>
        <p:spPr>
          <a:xfrm>
            <a:off x="2208240" y="3657600"/>
            <a:ext cx="4159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ass and the 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lead"/>
          <p:cNvPicPr/>
          <p:nvPr/>
        </p:nvPicPr>
        <p:blipFill>
          <a:blip r:embed="rId1"/>
          <a:stretch/>
        </p:blipFill>
        <p:spPr>
          <a:xfrm>
            <a:off x="533520" y="3406680"/>
            <a:ext cx="2209680" cy="1770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Copper"/>
          <p:cNvPicPr/>
          <p:nvPr/>
        </p:nvPicPr>
        <p:blipFill>
          <a:blip r:embed="rId2"/>
          <a:stretch/>
        </p:blipFill>
        <p:spPr>
          <a:xfrm>
            <a:off x="6172200" y="3352680"/>
            <a:ext cx="2362320" cy="19447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609480" y="144792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ss of one mole of a substance is unique to that substance and is based on the sum of the atomic masses of the elements in that sub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3" descr="water"/>
          <p:cNvPicPr/>
          <p:nvPr/>
        </p:nvPicPr>
        <p:blipFill>
          <a:blip r:embed="rId3"/>
          <a:stretch/>
        </p:blipFill>
        <p:spPr>
          <a:xfrm>
            <a:off x="3276720" y="3352680"/>
            <a:ext cx="2361960" cy="1890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5"/>
          <p:cNvSpPr/>
          <p:nvPr/>
        </p:nvSpPr>
        <p:spPr>
          <a:xfrm>
            <a:off x="228600" y="54864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ole of lead = 207.2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3200400" y="54864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ole of water = 18.0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6172200" y="54100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ole of copper = 63.6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921960" y="6019920"/>
            <a:ext cx="7517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07ff"/>
                </a:solidFill>
                <a:latin typeface="Arial"/>
              </a:rPr>
              <a:t>Mass of H</a:t>
            </a:r>
            <a:r>
              <a:rPr b="0" lang="en-US" sz="1800" spc="-1" strike="noStrike" baseline="-25000">
                <a:solidFill>
                  <a:srgbClr val="0707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707ff"/>
                </a:solidFill>
                <a:latin typeface="Arial"/>
              </a:rPr>
              <a:t>O = mass of two hydrogen atoms + mass of one oxygen a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7429680" y="5143680"/>
            <a:ext cx="1714320" cy="1714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lculating Molar Mas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0520" y="1447560"/>
            <a:ext cx="73962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lar mass of elements is equal to their atomic mass from the periodic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 1 mole of Fe atoms = 55.847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lar mass of compounds is equal to the sum of the atomic masses of the individual elements in that comp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 1 mole of F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 x 55.847) + (3 x 32.066) + (12 x 15.999) = 401.6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2"/>
          <a:stretch/>
        </p:blipFill>
        <p:spPr>
          <a:xfrm>
            <a:off x="7315200" y="2666880"/>
            <a:ext cx="138096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ole-Mass Convers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4479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ike mole-particle conversions where the conversion factor is always 1mole = 6.02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les, each mole-mass conversion factor is unique to the substance invol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414000" y="3048120"/>
            <a:ext cx="69105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 2.3 moles of sodium (Na) to grams of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10.0 g of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moles of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http://www.vanderkrogt.net/elements/images/elements/Na_sodium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34320" y="3581280"/>
            <a:ext cx="1712880" cy="1219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http://t1.gstatic.com/images?q=tbn:ANd9GcTXe0tqkpQfm6m18w499582XbqLMdXfLrurcUt8BMRnnxzhx8rW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34320" y="5295960"/>
            <a:ext cx="167616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arm-up #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685800" y="1752480"/>
            <a:ext cx="662940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ntains more representative particles, a mole of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a mole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?</a:t>
            </a:r>
            <a:r>
              <a:rPr b="0" lang="en-US" sz="3200" spc="-1" strike="noStrike">
                <a:solidFill>
                  <a:srgbClr val="0707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http://www.waste.katalyst-tt.com/sites/default/files/WebPics/Chemicals.png"/>
          <p:cNvPicPr/>
          <p:nvPr/>
        </p:nvPicPr>
        <p:blipFill>
          <a:blip r:embed="rId1"/>
          <a:stretch/>
        </p:blipFill>
        <p:spPr>
          <a:xfrm>
            <a:off x="4686480" y="2981160"/>
            <a:ext cx="4457520" cy="387684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609480" y="388620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swer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k Question.  They contain the same number of representative parti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3:39:21Z</dcterms:created>
  <dc:creator>udsd</dc:creator>
  <dc:description/>
  <dc:language>en-US</dc:language>
  <cp:lastModifiedBy>Dawn</cp:lastModifiedBy>
  <dcterms:modified xsi:type="dcterms:W3CDTF">2014-03-16T23:52:43Z</dcterms:modified>
  <cp:revision>58</cp:revision>
  <dc:subject/>
  <dc:title>The Mole</dc:title>
</cp:coreProperties>
</file>